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32CD-EB62-4C73-9BA1-9E16AB1C7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96D5-62A6-432C-8AFC-87C8BF2C4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E21B-068C-4EB4-A5C4-4E71804D4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E02B-147F-474C-810A-B75326768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7BD2-09D0-481F-A880-D5943A048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60D5-7DDA-4E6D-84B2-5B8FE8AEE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A3A9-8FA4-4674-9CA3-12C3455C4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5C94-AA2A-4F38-8EEC-25F0518C5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0B53-ADD1-4964-A6BD-BC30E3569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06F4-DEA6-42CF-B9AC-7A41055E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34E8-476B-452E-9022-6799EC00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2D47-85D5-40B1-B1BA-69F603DD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09DA3-3DC5-4C39-ACE3-2A84B7B60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6:47:13Z</dcterms:created>
  <dc:creator>abeason</dc:creator>
  <dc:description/>
  <dc:language>en-US</dc:language>
  <cp:lastModifiedBy>abeason</cp:lastModifiedBy>
  <dcterms:modified xsi:type="dcterms:W3CDTF">2008-10-21T16:47:17Z</dcterms:modified>
  <cp:revision>1</cp:revision>
  <dc:subject/>
  <dc:title>Slide 1</dc:title>
</cp:coreProperties>
</file>